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3C83-7DFC-48D3-BE10-9AA476FAD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8376-7773-4761-BBF8-4F057DAA0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0B6B-CE4B-4339-A3CA-A4D544094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ECFD-4AC1-413D-82BA-BE86BE8A3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D199-C668-473C-BD81-4AA0CDAEA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EC5B-9AC8-4916-9586-F9769F9B1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19C3-A551-4B16-A4D9-4E44E94CB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C9C7-F28F-4818-908B-3B0533896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52BB-D082-44E9-A2FD-B20B3F783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95F5-E989-491C-B7FC-00D45D50A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F968-CF2F-413F-AC4F-43453F2A4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A166-E39C-4E55-B089-40B6DB3CC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6C12-4008-45FD-95D2-7D02FE4E2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6CA7-933F-4383-B4EE-A5F8EEDCE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C76A-A633-4022-89F5-EB3903F08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0EA5-ADE8-4AC3-9D74-D06A8B3F4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63BE-6C05-42B5-BD2B-536845686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: http://www.uncp.edu/academics/colleges-schools-departments/departments/biology/careers-biology/biology-sub-disci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9DC2-96FD-41A2-9A23-2886E0724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261F-3029-4654-A38E-9954F6304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29B2-7229-4628-9967-AEDB8CA85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FACD-7A33-4126-A95C-9A0124B7D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AD17-BB78-4816-9599-A32A51243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832A-40CB-4C5C-BA52-DF963FBFC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BAF8-5D71-48B4-BA8A-4235AEDFE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8D0-9CCA-4A33-9FB8-0801F890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BDDD-C33F-4FA0-8708-562E9603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3B7C-709D-41FD-8C25-FA452296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667-FD0B-4B64-8CCB-B8461D34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A86E-AF38-4D51-8886-3368B286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DA9-460E-4323-9D48-3A86E069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6F7-6292-4391-AEFC-2206F355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E2A-63A6-4E08-ACF1-663367E8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F81-78B4-4261-8C93-53D35A97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B24-473F-4E54-A470-8F26C217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D037-1F6F-4F8E-9813-C19B412A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F125-8CD6-4372-B9D7-794D28B3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129E-6136-4199-B98D-2B4AD054A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quizlet.com/6402624/biology-disciplines-flash-card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uncp.edu/academics/colleges-schools-departments/departments/biology/careers-biology/biology-sub-discipline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 Discipline Balderd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ic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ic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s in the huma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/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ne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s in the huma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cer/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ne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end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historic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endants of ichthyosa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eases of the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end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historic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endants of ichthyosa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eases of the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ymphatic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bs (arms, leg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&amp; their medical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rus-related fields (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m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atin for l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ymphatic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bs (arms, leg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&amp; their medical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rus-related fields (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m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atin for l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ous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roduc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s &amp; th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ma”, alternatively written “Nem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ous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roduc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ound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s &amp; th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ma”, alternatively written “Nem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technology to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biological methods to the study and design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biological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bio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prosth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machines &amp;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c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pirato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 &amp; cardiovascula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c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pirato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 &amp; cardiovascula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le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like using flashcards for review, this is a great website for creating or finding the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quizlet.com/6402624/biology-disciplines-flash-car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 Discip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 more comprehensiv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Biology disciplines from the University of North Carolina Pembr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technology to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plication of biological methods to the study and design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biological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bio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prosth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machines &amp;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3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e m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s of huma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a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behaviour &amp;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e m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s of huma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a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behaviour &amp;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nds and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es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kelet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lands and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es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kelet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 &amp; 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pidural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mu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 &amp; 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pidural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mu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4:21:30Z</dcterms:created>
  <dc:creator>rubina khan</dc:creator>
  <dc:description/>
  <dc:language>en-US</dc:language>
  <cp:lastModifiedBy>rubina khan</cp:lastModifiedBy>
  <dcterms:modified xsi:type="dcterms:W3CDTF">2018-02-05T17:19:25Z</dcterms:modified>
  <cp:revision>433</cp:revision>
  <dc:subject/>
  <dc:title>Biology Disciplines</dc:title>
</cp:coreProperties>
</file>